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83413" cy="875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984000" cy="87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57480" y="-36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304640" y="655200"/>
            <a:ext cx="4375080" cy="32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311680"/>
            <a:ext cx="302724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LASSIFIED//FOR OFFICIAL USE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57480" y="8311680"/>
            <a:ext cx="3027600" cy="438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C81045D-554D-4B12-AF76-6A7ACC82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50DA7F1-1F21-43DF-80F8-DA06B0AEF28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576D4E7-1C50-4EE4-814D-4261D6B99AE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C9AEE41-D215-4BFE-8016-9E69A653CE0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0D6734B-50EE-4F77-8F7B-608A6E6306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8C50624-6BBA-4D01-8C64-88715CC1EE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09D675-0786-4613-84F5-C3BECF54293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05000" y="655560"/>
            <a:ext cx="4375080" cy="3281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156200"/>
            <a:ext cx="5121000" cy="39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3957480" y="8312040"/>
            <a:ext cx="3027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DBB00ED-D0DE-4C1C-88C4-B6BBDAC6B9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343-88AB-4152-A217-61DC14DE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246-B381-4909-8DBD-1224AC6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7708-3503-4BFA-8604-F58FCE1A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3B0-432A-40D0-B3DD-158C4C20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580D-44DF-4BCC-8039-530B5317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E1AE-A276-4637-8464-2C9A82DA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8DBA-CED6-4E01-9B33-48E2E94B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9CEA-8CB6-46F7-A566-D0472014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DECFF-41D2-4790-9EA3-7B225C2C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3DC6-4806-4D11-AE37-558E0D7D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0E22-962C-4A73-8F9E-052AECAF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5E3-58A2-4A71-9E05-E6745A9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E459-3482-44C2-BC52-BF8A477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D771-520A-4482-8B93-346BD7F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1534-EFED-42C2-B0E8-BA1A64B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259D-51A8-4BCB-B0DF-B7356548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5A7C-A103-404C-889F-A7DA5259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467-8D69-440E-B945-F7BF7CCF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DD3-03C1-4AD9-90DE-AFF7841A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F0F-4FE2-4F98-BA62-C0F4DA54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438280" y="151920"/>
            <a:ext cx="4648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93D-B024-4C01-9D22-0055B5A2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B6D-E47A-4CEB-87DF-72827EB4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EC0-0002-4B56-835E-C3CF7FF9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F2A-C114-496D-A986-7AB0ABE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3C04-0F84-4A5C-8728-98E01EE43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0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7" name="Object 10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New_CSS_PC"/>
          <p:cNvPicPr/>
          <p:nvPr/>
        </p:nvPicPr>
        <p:blipFill>
          <a:blip r:embed="rId2"/>
          <a:stretch/>
        </p:blipFill>
        <p:spPr>
          <a:xfrm>
            <a:off x="1295280" y="228600"/>
            <a:ext cx="106992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nsaseal"/>
          <p:cNvPicPr/>
          <p:nvPr/>
        </p:nvPicPr>
        <p:blipFill>
          <a:blip r:embed="rId3"/>
          <a:stretch/>
        </p:blipFill>
        <p:spPr>
          <a:xfrm>
            <a:off x="380880" y="228600"/>
            <a:ext cx="1067040" cy="1000080"/>
          </a:xfrm>
          <a:prstGeom prst="rect">
            <a:avLst/>
          </a:prstGeom>
          <a:ln w="0">
            <a:noFill/>
          </a:ln>
        </p:spPr>
      </p:pic>
      <p:pic>
        <p:nvPicPr>
          <p:cNvPr id="47" name="Object 9" descr=""/>
          <p:cNvPicPr/>
          <p:nvPr/>
        </p:nvPicPr>
        <p:blipFill>
          <a:blip r:embed="rId4"/>
          <a:stretch/>
        </p:blipFill>
        <p:spPr>
          <a:xfrm>
            <a:off x="6480" y="1371600"/>
            <a:ext cx="9137520" cy="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IADweblogo"/>
          <p:cNvPicPr/>
          <p:nvPr/>
        </p:nvPicPr>
        <p:blipFill>
          <a:blip r:embed="rId5"/>
          <a:stretch/>
        </p:blipFill>
        <p:spPr>
          <a:xfrm>
            <a:off x="7162920" y="228600"/>
            <a:ext cx="1752480" cy="915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1519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6527-5B12-4559-A608-15B9C020E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87200" y="1523880"/>
            <a:ext cx="880452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228600" y="1600200"/>
            <a:ext cx="3200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Vulnerability Enumeration (CV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latform Enumeration (CP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Remediation Enumeration (CR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Remediation Information (ER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Control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ation Policy Languag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362320" y="228600"/>
            <a:ext cx="4800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Remediation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160020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6858000" y="294948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86000" y="2514600"/>
            <a:ext cx="449568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286000" y="2754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43828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343400" y="4648320"/>
            <a:ext cx="15238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6324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2971800" y="4648320"/>
            <a:ext cx="129528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41148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48120" y="4800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1523880" y="46483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0"/>
          <p:cNvSpPr/>
          <p:nvPr/>
        </p:nvSpPr>
        <p:spPr>
          <a:xfrm>
            <a:off x="61722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V="1">
            <a:off x="25909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 flipV="1">
            <a:off x="396252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175248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200400" y="403848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640080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76201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9"/>
          <p:cNvSpPr/>
          <p:nvPr/>
        </p:nvSpPr>
        <p:spPr>
          <a:xfrm>
            <a:off x="1523880" y="46483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uble Ticketing System (Remed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0"/>
          <p:cNvSpPr/>
          <p:nvPr/>
        </p:nvSpPr>
        <p:spPr>
          <a:xfrm>
            <a:off x="4343400" y="4800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mediation Tool (SR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1"/>
          <p:cNvSpPr/>
          <p:nvPr/>
        </p:nvSpPr>
        <p:spPr>
          <a:xfrm>
            <a:off x="76320" y="2971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a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n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8954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19051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level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2286000" y="32004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Local Remediation Policy Edi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Risk Management Process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0"/>
          <p:cNvSpPr/>
          <p:nvPr/>
        </p:nvSpPr>
        <p:spPr>
          <a:xfrm>
            <a:off x="5943600" y="4648320"/>
            <a:ext cx="16002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1"/>
          <p:cNvSpPr/>
          <p:nvPr/>
        </p:nvSpPr>
        <p:spPr>
          <a:xfrm>
            <a:off x="5943600" y="47912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Distribution (Patch Too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V="1">
            <a:off x="563868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54864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4648320" y="4038480"/>
            <a:ext cx="685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&amp;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0"/>
          <p:cNvSpPr/>
          <p:nvPr/>
        </p:nvSpPr>
        <p:spPr>
          <a:xfrm>
            <a:off x="1600200" y="2949480"/>
            <a:ext cx="762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7816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5"/>
          <p:cNvSpPr/>
          <p:nvPr/>
        </p:nvSpPr>
        <p:spPr>
          <a:xfrm>
            <a:off x="6095880" y="5943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USutil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2971800" y="58672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add, Dsmod, Dsrm, Dsmove, LDIF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7"/>
          <p:cNvSpPr/>
          <p:nvPr/>
        </p:nvSpPr>
        <p:spPr>
          <a:xfrm>
            <a:off x="4491000" y="58672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edit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CLS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362320" y="152280"/>
            <a:ext cx="4800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D Remediation Standard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Project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Remediation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 rot="16200000">
            <a:off x="4191120" y="1371240"/>
            <a:ext cx="1523880" cy="3809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3200400" y="3059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DIATION TO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762120" y="3429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762120" y="2971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762120" y="35812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 Reporting on tas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41148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5486400" y="41860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Registry Settings equivalent to using REG.ex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0"/>
          <p:cNvSpPr/>
          <p:nvPr/>
        </p:nvSpPr>
        <p:spPr>
          <a:xfrm>
            <a:off x="4800600" y="4800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s File Permissions equivalent to using CACLS.ex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0"/>
          <p:cNvSpPr/>
          <p:nvPr/>
        </p:nvSpPr>
        <p:spPr>
          <a:xfrm>
            <a:off x="4114800" y="541008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l Policy Changes equivalent to using secedit.exe command l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0"/>
          <p:cNvSpPr/>
          <p:nvPr/>
        </p:nvSpPr>
        <p:spPr>
          <a:xfrm>
            <a:off x="762120" y="22860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pts CRE, Parameters, and ID Tasking or XML file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5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3733920" y="5068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7"/>
          <p:cNvSpPr/>
          <p:nvPr/>
        </p:nvSpPr>
        <p:spPr>
          <a:xfrm>
            <a:off x="3733920" y="4038480"/>
            <a:ext cx="0" cy="10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>
            <a:off x="3352680" y="56786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21"/>
          <p:cNvSpPr/>
          <p:nvPr/>
        </p:nvSpPr>
        <p:spPr>
          <a:xfrm>
            <a:off x="3352680" y="403848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Backup Sli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Can 25"/>
          <p:cNvSpPr/>
          <p:nvPr/>
        </p:nvSpPr>
        <p:spPr>
          <a:xfrm>
            <a:off x="3657600" y="2971800"/>
            <a:ext cx="121932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age Polici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14400" y="152388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676520" y="17524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676520" y="4724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E/ERI Consum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n 23"/>
          <p:cNvSpPr/>
          <p:nvPr/>
        </p:nvSpPr>
        <p:spPr>
          <a:xfrm>
            <a:off x="3657600" y="167652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n 24"/>
          <p:cNvSpPr/>
          <p:nvPr/>
        </p:nvSpPr>
        <p:spPr>
          <a:xfrm>
            <a:off x="3657600" y="4648320"/>
            <a:ext cx="121932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wn Arrow 29"/>
          <p:cNvSpPr/>
          <p:nvPr/>
        </p:nvSpPr>
        <p:spPr>
          <a:xfrm rot="16200000">
            <a:off x="2590920" y="1828800"/>
            <a:ext cx="1218960" cy="914400"/>
          </a:xfrm>
          <a:prstGeom prst="downArrow">
            <a:avLst>
              <a:gd name="adj1" fmla="val 78389"/>
              <a:gd name="adj2" fmla="val 2037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New Polic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wn Arrow 30"/>
          <p:cNvSpPr/>
          <p:nvPr/>
        </p:nvSpPr>
        <p:spPr>
          <a:xfrm rot="16200000">
            <a:off x="2629080" y="4762440"/>
            <a:ext cx="1218960" cy="990720"/>
          </a:xfrm>
          <a:prstGeom prst="downArrow">
            <a:avLst>
              <a:gd name="adj1" fmla="val 78611"/>
              <a:gd name="adj2" fmla="val 2000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ngest &amp; Store Known Remedi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xplosion 1 32"/>
          <p:cNvSpPr/>
          <p:nvPr/>
        </p:nvSpPr>
        <p:spPr>
          <a:xfrm>
            <a:off x="5638680" y="1600200"/>
            <a:ext cx="1981440" cy="160020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l Policy Ed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n 33"/>
          <p:cNvSpPr/>
          <p:nvPr/>
        </p:nvSpPr>
        <p:spPr>
          <a:xfrm>
            <a:off x="55627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 &amp; Groups by Too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-Right Arrow 35"/>
          <p:cNvSpPr/>
          <p:nvPr/>
        </p:nvSpPr>
        <p:spPr>
          <a:xfrm rot="17211600">
            <a:off x="5673600" y="3171600"/>
            <a:ext cx="1524240" cy="685800"/>
          </a:xfrm>
          <a:prstGeom prst="leftRightArrow">
            <a:avLst>
              <a:gd name="adj1" fmla="val 50000"/>
              <a:gd name="adj2" fmla="val 447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Policies to each tool for  Devices &amp;Device Group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eft-Right Arrow 36"/>
          <p:cNvSpPr/>
          <p:nvPr/>
        </p:nvSpPr>
        <p:spPr>
          <a:xfrm rot="382800">
            <a:off x="4648320" y="1981080"/>
            <a:ext cx="1447560" cy="609840"/>
          </a:xfrm>
          <a:prstGeom prst="leftRightArrow">
            <a:avLst>
              <a:gd name="adj1" fmla="val 50000"/>
              <a:gd name="adj2" fmla="val 58023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and Sav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eft-Right Arrow 37"/>
          <p:cNvSpPr/>
          <p:nvPr/>
        </p:nvSpPr>
        <p:spPr>
          <a:xfrm rot="18663600">
            <a:off x="4000320" y="3465360"/>
            <a:ext cx="2714400" cy="438120"/>
          </a:xfrm>
          <a:prstGeom prst="leftRightArrow">
            <a:avLst>
              <a:gd name="adj1" fmla="val 50000"/>
              <a:gd name="adj2" fmla="val 5340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etrieve, Edit, Create, &amp; Store Remedia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371600" y="1828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1371600" y="2514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1371600" y="4800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5486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676520" y="33526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1371600" y="34290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1371600" y="41148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8"/>
          <p:cNvSpPr/>
          <p:nvPr/>
        </p:nvSpPr>
        <p:spPr>
          <a:xfrm>
            <a:off x="2743200" y="3200400"/>
            <a:ext cx="990720" cy="1371600"/>
          </a:xfrm>
          <a:prstGeom prst="leftArrow">
            <a:avLst>
              <a:gd name="adj1" fmla="val 71602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Locally Created Remediations &amp;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eft-Right Arrow 37"/>
          <p:cNvSpPr/>
          <p:nvPr/>
        </p:nvSpPr>
        <p:spPr>
          <a:xfrm rot="20280000">
            <a:off x="4114440" y="2743200"/>
            <a:ext cx="2176560" cy="438120"/>
          </a:xfrm>
          <a:prstGeom prst="leftRightArrow">
            <a:avLst>
              <a:gd name="adj1" fmla="val 50000"/>
              <a:gd name="adj2" fmla="val 4282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, Edit, Create, &amp; Store Mitigations and 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Can 33"/>
          <p:cNvSpPr/>
          <p:nvPr/>
        </p:nvSpPr>
        <p:spPr>
          <a:xfrm>
            <a:off x="7162920" y="4191120"/>
            <a:ext cx="129528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ool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eft-Right Arrow 35"/>
          <p:cNvSpPr/>
          <p:nvPr/>
        </p:nvSpPr>
        <p:spPr>
          <a:xfrm rot="3470400">
            <a:off x="6734160" y="3159000"/>
            <a:ext cx="1828800" cy="691920"/>
          </a:xfrm>
          <a:prstGeom prst="leftRightArrow">
            <a:avLst>
              <a:gd name="adj1" fmla="val 50000"/>
              <a:gd name="adj2" fmla="val 53265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dentify which remediations/mitigations each tool can implement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04920" y="160020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ecute Policy-Based Remedi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7238880" y="35812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8229600" y="36576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8229600" y="434340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238880" y="4800600"/>
            <a:ext cx="1143000" cy="10666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tus Pars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8229600" y="5562720"/>
            <a:ext cx="457200" cy="2286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97180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312408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7339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n 26"/>
          <p:cNvSpPr/>
          <p:nvPr/>
        </p:nvSpPr>
        <p:spPr>
          <a:xfrm>
            <a:off x="1828800" y="3886200"/>
            <a:ext cx="220968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n 27"/>
          <p:cNvSpPr/>
          <p:nvPr/>
        </p:nvSpPr>
        <p:spPr>
          <a:xfrm>
            <a:off x="5334120" y="220968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9"/>
          <p:cNvGrpSpPr/>
          <p:nvPr/>
        </p:nvGrpSpPr>
        <p:grpSpPr>
          <a:xfrm>
            <a:off x="1752480" y="4800240"/>
            <a:ext cx="1067040" cy="2057400"/>
            <a:chOff x="1752480" y="4800240"/>
            <a:chExt cx="1067040" cy="2057400"/>
          </a:xfrm>
        </p:grpSpPr>
        <p:sp>
          <p:nvSpPr>
            <p:cNvPr id="191" name="Rectangle 5"/>
            <p:cNvSpPr/>
            <p:nvPr/>
          </p:nvSpPr>
          <p:spPr>
            <a:xfrm rot="16200000">
              <a:off x="1714320" y="5371560"/>
              <a:ext cx="1143000" cy="10670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 rot="16200000">
              <a:off x="17139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16200000">
              <a:off x="240012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ight Arrow 31"/>
            <p:cNvSpPr/>
            <p:nvPr/>
          </p:nvSpPr>
          <p:spPr>
            <a:xfrm rot="16200000">
              <a:off x="2057400" y="4723920"/>
              <a:ext cx="685800" cy="83844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Explosion 1 38"/>
          <p:cNvSpPr/>
          <p:nvPr/>
        </p:nvSpPr>
        <p:spPr>
          <a:xfrm>
            <a:off x="2971800" y="1600200"/>
            <a:ext cx="1600200" cy="129528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Task Build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eft-Right Arrow 40"/>
          <p:cNvSpPr/>
          <p:nvPr/>
        </p:nvSpPr>
        <p:spPr>
          <a:xfrm rot="17008200">
            <a:off x="2770200" y="2868120"/>
            <a:ext cx="1600200" cy="739800"/>
          </a:xfrm>
          <a:prstGeom prst="leftRightArrow">
            <a:avLst>
              <a:gd name="adj1" fmla="val 50000"/>
              <a:gd name="adj2" fmla="val 2067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Assign Mitigations, Alternatie Remediations, &amp; Accept Risk based on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n 23"/>
          <p:cNvSpPr/>
          <p:nvPr/>
        </p:nvSpPr>
        <p:spPr>
          <a:xfrm>
            <a:off x="380880" y="2666880"/>
            <a:ext cx="1219320" cy="11430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licy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n 33"/>
          <p:cNvSpPr/>
          <p:nvPr/>
        </p:nvSpPr>
        <p:spPr>
          <a:xfrm>
            <a:off x="380880" y="1600200"/>
            <a:ext cx="1295640" cy="838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licy mapping to Devices&amp;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eft-Right Arrow 40"/>
          <p:cNvSpPr/>
          <p:nvPr/>
        </p:nvSpPr>
        <p:spPr>
          <a:xfrm rot="460200">
            <a:off x="1512360" y="1947600"/>
            <a:ext cx="1819440" cy="436320"/>
          </a:xfrm>
          <a:prstGeom prst="leftRightArrow">
            <a:avLst>
              <a:gd name="adj1" fmla="val 50000"/>
              <a:gd name="adj2" fmla="val 39866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Locate devices in groups to determine applicable polici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eft-Right Arrow 40"/>
          <p:cNvSpPr/>
          <p:nvPr/>
        </p:nvSpPr>
        <p:spPr>
          <a:xfrm rot="20306400">
            <a:off x="1512720" y="2643120"/>
            <a:ext cx="1981440" cy="436680"/>
          </a:xfrm>
          <a:prstGeom prst="leftRightArrow">
            <a:avLst>
              <a:gd name="adj1" fmla="val 50000"/>
              <a:gd name="adj2" fmla="val 3985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eive Policies for each device &amp; look up remedi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3048120" y="4800600"/>
            <a:ext cx="990360" cy="685800"/>
          </a:xfrm>
          <a:prstGeom prst="downArrow">
            <a:avLst>
              <a:gd name="adj1" fmla="val 68907"/>
              <a:gd name="adj2" fmla="val 3229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s &amp; Mitigations/Exception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eft-Right Arrow 40"/>
          <p:cNvSpPr/>
          <p:nvPr/>
        </p:nvSpPr>
        <p:spPr>
          <a:xfrm rot="957600">
            <a:off x="4038120" y="2437920"/>
            <a:ext cx="1447920" cy="436680"/>
          </a:xfrm>
          <a:prstGeom prst="leftRightArrow">
            <a:avLst>
              <a:gd name="adj1" fmla="val 50000"/>
              <a:gd name="adj2" fmla="val 31699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mediation Tasks Assigned to Too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xplosion 1 38"/>
          <p:cNvSpPr/>
          <p:nvPr/>
        </p:nvSpPr>
        <p:spPr>
          <a:xfrm>
            <a:off x="5257800" y="3809880"/>
            <a:ext cx="1600200" cy="129564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mediation Workflow Manag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eft-Right Arrow 40"/>
          <p:cNvSpPr/>
          <p:nvPr/>
        </p:nvSpPr>
        <p:spPr>
          <a:xfrm rot="16483800">
            <a:off x="52012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New Taskings Retreiv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eft-Right Arrow 40"/>
          <p:cNvSpPr/>
          <p:nvPr/>
        </p:nvSpPr>
        <p:spPr>
          <a:xfrm rot="20763600">
            <a:off x="6400800" y="3962520"/>
            <a:ext cx="1066680" cy="436320"/>
          </a:xfrm>
          <a:prstGeom prst="leftRightArrow">
            <a:avLst>
              <a:gd name="adj1" fmla="val 50000"/>
              <a:gd name="adj2" fmla="val 2337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Tasks Assigned for Public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eft-Right Arrow 40"/>
          <p:cNvSpPr/>
          <p:nvPr/>
        </p:nvSpPr>
        <p:spPr>
          <a:xfrm rot="1420800">
            <a:off x="5866920" y="4952880"/>
            <a:ext cx="1676520" cy="43668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Provided for Processing &amp; Display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eft-Right Arrow 40"/>
          <p:cNvSpPr/>
          <p:nvPr/>
        </p:nvSpPr>
        <p:spPr>
          <a:xfrm rot="16483800">
            <a:off x="5658480" y="3332520"/>
            <a:ext cx="1158840" cy="436320"/>
          </a:xfrm>
          <a:prstGeom prst="leftRightArrow">
            <a:avLst>
              <a:gd name="adj1" fmla="val 50000"/>
              <a:gd name="adj2" fmla="val 25391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Status Updates Stor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mediation Manager Functions: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port Remediation and Risk Acceptance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67652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6553080" y="5410080"/>
            <a:ext cx="1143000" cy="106704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s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670572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2"/>
          <p:cNvSpPr/>
          <p:nvPr/>
        </p:nvSpPr>
        <p:spPr>
          <a:xfrm>
            <a:off x="7315200" y="6400800"/>
            <a:ext cx="228600" cy="4572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26"/>
          <p:cNvSpPr/>
          <p:nvPr/>
        </p:nvSpPr>
        <p:spPr>
          <a:xfrm>
            <a:off x="5410080" y="3886200"/>
            <a:ext cx="221004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39"/>
          <p:cNvGrpSpPr/>
          <p:nvPr/>
        </p:nvGrpSpPr>
        <p:grpSpPr>
          <a:xfrm>
            <a:off x="5334120" y="4800240"/>
            <a:ext cx="1066680" cy="2057400"/>
            <a:chOff x="5334120" y="4800240"/>
            <a:chExt cx="1066680" cy="2057400"/>
          </a:xfrm>
        </p:grpSpPr>
        <p:sp>
          <p:nvSpPr>
            <p:cNvPr id="215" name="Rectangle 5"/>
            <p:cNvSpPr/>
            <p:nvPr/>
          </p:nvSpPr>
          <p:spPr>
            <a:xfrm rot="16200000">
              <a:off x="5295960" y="5371920"/>
              <a:ext cx="1143000" cy="106668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nding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arser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 rot="16200000">
              <a:off x="529560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 rot="16200000">
              <a:off x="5981760" y="6514560"/>
              <a:ext cx="457200" cy="2286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ight Arrow 31"/>
            <p:cNvSpPr/>
            <p:nvPr/>
          </p:nvSpPr>
          <p:spPr>
            <a:xfrm rot="16200000">
              <a:off x="5638680" y="4723920"/>
              <a:ext cx="685800" cy="838080"/>
            </a:xfrm>
            <a:prstGeom prst="rightArrow">
              <a:avLst>
                <a:gd name="adj1" fmla="val 86009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Ingest &amp; </a:t>
              </a:r>
              <a:r>
                <a:rPr b="1" lang="en-US" sz="800" spc="-1" strike="noStrike">
                  <a:solidFill>
                    <a:srgbClr val="ffffff"/>
                  </a:solidFill>
                  <a:latin typeface="Arial"/>
                </a:rPr>
                <a:t>Store New Findings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Can 25"/>
          <p:cNvSpPr/>
          <p:nvPr/>
        </p:nvSpPr>
        <p:spPr>
          <a:xfrm>
            <a:off x="533520" y="4648320"/>
            <a:ext cx="1218960" cy="1523880"/>
          </a:xfrm>
          <a:prstGeom prst="can">
            <a:avLst>
              <a:gd name="adj" fmla="val 2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cep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Can 24"/>
          <p:cNvSpPr/>
          <p:nvPr/>
        </p:nvSpPr>
        <p:spPr>
          <a:xfrm>
            <a:off x="533520" y="3733920"/>
            <a:ext cx="1218960" cy="1295280"/>
          </a:xfrm>
          <a:prstGeom prst="can">
            <a:avLst>
              <a:gd name="adj" fmla="val 2352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mediation &amp; Mitigation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0"/>
          <p:cNvSpPr/>
          <p:nvPr/>
        </p:nvSpPr>
        <p:spPr>
          <a:xfrm>
            <a:off x="6477120" y="4724280"/>
            <a:ext cx="1295280" cy="762120"/>
          </a:xfrm>
          <a:prstGeom prst="downArrow">
            <a:avLst>
              <a:gd name="adj1" fmla="val 83824"/>
              <a:gd name="adj2" fmla="val 321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xport Finding Mitigations/ Exceptions &amp; Remediation Failure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xplosion 1 38"/>
          <p:cNvSpPr/>
          <p:nvPr/>
        </p:nvSpPr>
        <p:spPr>
          <a:xfrm>
            <a:off x="2438280" y="1523880"/>
            <a:ext cx="1752840" cy="2362320"/>
          </a:xfrm>
          <a:prstGeom prst="irregularSeal1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tigation and Exception Reporting Engi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eft-Right Arrow 40"/>
          <p:cNvSpPr/>
          <p:nvPr/>
        </p:nvSpPr>
        <p:spPr>
          <a:xfrm rot="1581000">
            <a:off x="3429000" y="3733920"/>
            <a:ext cx="2562120" cy="436320"/>
          </a:xfrm>
          <a:prstGeom prst="leftRightArrow">
            <a:avLst>
              <a:gd name="adj1" fmla="val 50000"/>
              <a:gd name="adj2" fmla="val 56138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Provide Mitigation and Exception Documentation to Unremediated Non-compliant Finding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eft-Right Arrow 40"/>
          <p:cNvSpPr/>
          <p:nvPr/>
        </p:nvSpPr>
        <p:spPr>
          <a:xfrm rot="19075200">
            <a:off x="914400" y="4038120"/>
            <a:ext cx="2562120" cy="436680"/>
          </a:xfrm>
          <a:prstGeom prst="leftRightArrow">
            <a:avLst>
              <a:gd name="adj1" fmla="val 50000"/>
              <a:gd name="adj2" fmla="val 56092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Exception and Mitigation Detail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an 27"/>
          <p:cNvSpPr/>
          <p:nvPr/>
        </p:nvSpPr>
        <p:spPr>
          <a:xfrm>
            <a:off x="5791320" y="2057400"/>
            <a:ext cx="1600200" cy="9907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sking Workflow Sto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eft-Right Arrow 40"/>
          <p:cNvSpPr/>
          <p:nvPr/>
        </p:nvSpPr>
        <p:spPr>
          <a:xfrm rot="21008400">
            <a:off x="3728520" y="2284560"/>
            <a:ext cx="2210040" cy="838080"/>
          </a:xfrm>
          <a:prstGeom prst="leftRightArrow">
            <a:avLst>
              <a:gd name="adj1" fmla="val 50000"/>
              <a:gd name="adj2" fmla="val 25210"/>
            </a:avLst>
          </a:prstGeom>
          <a:solidFill>
            <a:srgbClr val="00cc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Retrieve Completed Mitigation Tasks and Incomplete Remediation Tasks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3:29:36Z</dcterms:created>
  <dc:creator>.</dc:creator>
  <dc:description/>
  <dc:language>en-US</dc:language>
  <cp:lastModifiedBy>sboczeno</cp:lastModifiedBy>
  <dcterms:modified xsi:type="dcterms:W3CDTF">2010-07-07T14:41:16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ssification">
    <vt:lpwstr>UNCLASSIFIED</vt:lpwstr>
  </property>
  <property fmtid="{D5CDD505-2E9C-101B-9397-08002B2CF9AE}" pid="3" name="Dissemination">
    <vt:lpwstr>FOR OFFICIAL USE ONLY</vt:lpwstr>
  </property>
</Properties>
</file>